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6AF-5EDA-4E5A-BA8D-71EB82E7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68D-2D5D-4711-B4D6-0B203263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6AD-9100-4C18-BCF7-4AAAA470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9BB-3D9B-42AA-91D3-0193D1FA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2AFF-E38C-4997-BDE4-66090F46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ED6E-5F49-45F2-AEDD-567F95AD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BBD8-99F0-437E-A813-BA322577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B9EC-9EFD-4ACA-AFF3-E4B71ADB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F69A-546E-4624-8526-E2E0B189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5F90-4B7B-40EC-8210-FE1A32E9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D9D8-7D46-4B1F-8610-405FBC77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EB6-4A90-4A72-B613-BEE524F0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23CC-F798-44C0-BE5B-32ECADAA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CDBE-F076-40CE-B50F-FEE412A7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37B4-2D81-4607-90A8-A0C4B9A3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DD94-1338-47ED-8F0D-E3521687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3A08-BBA1-4173-8A9A-EA44D73D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750-07E6-4B47-A321-3E403A61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1E0-8900-448D-8A46-5D803F2B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95D-D0B5-4608-8D16-10F053D9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37A-7763-4BBE-84E1-1DD34F6B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A89-6AC0-408B-9C6E-13F1B6DA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3B0-B7C6-4266-8A9D-701BF82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553-4114-4D24-96B4-5E611703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15B8-51FA-4224-A429-B4986533F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7D4F-BB8B-4754-AC4B-A439856A8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29400" y="304920"/>
            <a:ext cx="545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Ravie"/>
              </a:rPr>
              <a:t>Commo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Ravie"/>
              </a:rPr>
              <a:t>Error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Ravie"/>
              </a:rPr>
              <a:t>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Stateme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380880"/>
            <a:ext cx="77724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This is YOUR ess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The opinions expressed will obviously be YOUR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380880"/>
            <a:ext cx="77724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Be Forceful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Be Direct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Show Conviction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53352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y opinion is the federal government should devote more money to solar energy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19112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 federal government should devote more money to solar energy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53352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y thesis states the federal government should devote more money to solar energy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419112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 federal government should devote more money to solar energy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53352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In this essay I will present lots of reasons why horse racing should not be legalized in Tex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4191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Horse racing should not be legalized in Tex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0720" y="304920"/>
            <a:ext cx="777240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Cooper Black"/>
              </a:rPr>
              <a:t>Don’t be unreason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cc33"/>
                </a:solidFill>
                <a:latin typeface="Cooper Black"/>
              </a:rPr>
              <a:t>Don’t insult any reader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cc33"/>
                </a:solidFill>
                <a:latin typeface="Cooper Black"/>
              </a:rPr>
              <a:t>Making irrational or oversimplified claims will not convince your readers that you have a thorough understanding of the issue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228600"/>
            <a:ext cx="7772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Cooper Black"/>
              </a:rPr>
              <a:t>Don’t insult any reader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Cooper Black"/>
              </a:rPr>
              <a:t>Avoid irresponsible charges and</a:t>
            </a:r>
            <a:r>
              <a:rPr b="0" lang="en-US" sz="2400" spc="-1" strike="noStrike">
                <a:solidFill>
                  <a:srgbClr val="33cc33"/>
                </a:solidFill>
                <a:latin typeface="Cooper Black"/>
              </a:rPr>
              <a:t>                              </a:t>
            </a:r>
            <a:r>
              <a:rPr b="0" lang="en-US" sz="4800" spc="-1" strike="noStrike">
                <a:solidFill>
                  <a:srgbClr val="33cc33"/>
                </a:solidFill>
                <a:latin typeface="Cooper Black"/>
              </a:rPr>
              <a:t>name call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22860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Radical religious fanatics across the nation are trying to impose their right-wing views by censoring high school library boo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22860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Words such as “radical,” “fanatics,” “right-wing,” and “censoring” will antagonize many readers immediately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 paper will fail because it won’t be re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22860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Only local school board members--not religious leaders or parents--should decide which books high school libraries should ord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6483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States the same viewpoint objective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1447920"/>
            <a:ext cx="784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Here are five mistakes to avoid when writing your </a:t>
            </a:r>
            <a:r>
              <a:rPr b="0" lang="en-US" sz="4800" spc="-1" strike="noStrike">
                <a:solidFill>
                  <a:srgbClr val="ff0066"/>
                </a:solidFill>
                <a:latin typeface="Cooper Black"/>
              </a:rPr>
              <a:t>thesis statements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30492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o many corrupt books in our high school libraries selected by liberal, atheistic educators are undermining the morals of our you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5105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Again, many readers will find this offens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30492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ensure that high school libraries contain books that reflect community standards, parents should have a voice in selecting new tit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6483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States the same viewpoint objective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609480"/>
            <a:ext cx="7772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Don’t merely state a fact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A thesis is an assertion of opinion that leads to discussion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Don’t select an idea that is self-evident or dead-en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2286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Child abuse is a terrible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429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Yes, of course, who wouldn’t agree that child abuse is terrible.  Dead end for the discu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2286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Child abuse laws in this state are too lenient for repeat offend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9718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is thesis will lead to a discussion in which supporting arguments and evidence will be presen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2286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Advertisers often use attractive models in their ads to sell produc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895480"/>
            <a:ext cx="754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rue, but rather obvious.  How could this essay be turned into something more than a list describing one ad after anot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228600"/>
            <a:ext cx="777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Comic Sans MS"/>
              </a:rPr>
              <a:t>A number of liquor advertisers, well known for using pictures of attractive models to sell their products, are now using special graphics to send subliminal messages to their read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457200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This claim is controversial and will require persuasive supporting evi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228600"/>
            <a:ext cx="77724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99"/>
                </a:solidFill>
                <a:latin typeface="Comic Sans MS"/>
              </a:rPr>
              <a:t>Although long criticized for their negative portrayal of women in television commercials, the auto industry is just as often guilty of stereotyping men as brainless idiots unable to make a decis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937040"/>
            <a:ext cx="75438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Comic Sans MS"/>
              </a:rPr>
              <a:t>This thesis makes a point that may lead to an interesting discuss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19969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Don’t express your thesis in the form of a ques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90720" y="22860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99"/>
                </a:solidFill>
                <a:latin typeface="Comic Sans MS"/>
              </a:rPr>
              <a:t>Why should college students be required to take two years of a foreign langu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42900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Chemistry majors should be exempt from the foreign language requirem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762120"/>
            <a:ext cx="77724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Don’t just announce your subject matter or describe your intention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State an attitude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53352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subject of this essay is my experience with a pet boa constri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038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is is an announcement of the subject, not a thes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53352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I’m going to discuss boa constrictors as p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4038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is represents a statement of intentions, but not a thes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53352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Boa constrictors do not make healthy indoor p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429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 writer states an opinion that will be explained and defended in the ess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65736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y pet boa constrictor, Sir Pent, was a much better bodyguard than my dog, Fa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429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 writer states an opinion that will be explained and illustrated in the ess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304920"/>
            <a:ext cx="77724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Don’t clutter your thesis with expressions such as </a:t>
            </a:r>
            <a:r>
              <a:rPr b="0" lang="en-US" sz="5400" spc="-1" strike="noStrike">
                <a:solidFill>
                  <a:srgbClr val="3694b6"/>
                </a:solidFill>
                <a:latin typeface="Cooper Black"/>
              </a:rPr>
              <a:t>“in my opinion”        “I believe”</a:t>
            </a:r>
            <a:br>
              <a:rPr sz="5400"/>
            </a:br>
            <a:r>
              <a:rPr b="0" lang="en-US" sz="5400" spc="-1" strike="noStrike">
                <a:solidFill>
                  <a:srgbClr val="3694b6"/>
                </a:solidFill>
                <a:latin typeface="Cooper Black"/>
              </a:rPr>
              <a:t>“in this essay I’ll argue that…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76212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These unnecessary phrases weaken your thesis statement because they often sound timid or uncertai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2:24:40Z</dcterms:created>
  <dc:creator>Art Belliveau</dc:creator>
  <dc:description/>
  <dc:language>en-US</dc:language>
  <cp:lastModifiedBy>Angie</cp:lastModifiedBy>
  <dcterms:modified xsi:type="dcterms:W3CDTF">2009-05-07T04:53:08Z</dcterms:modified>
  <cp:revision>24</cp:revision>
  <dc:subject/>
  <dc:title>PowerPoint Presentation</dc:title>
</cp:coreProperties>
</file>